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6.png" ContentType="image/png"/>
  <Override PartName="/ppt/media/image3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E0F-A689-4F46-9D63-219A199F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DD7-75D4-4CBC-98B5-DA9DBB0A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08B6-CE45-45CD-B0B6-47903555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269-DFF6-4ABB-9048-7FBE8ECC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CDB-3E44-479E-A698-7936EAE7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692-6857-48F9-8E5A-9FC8A35A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718-0F86-4C85-A8FA-8F3221C3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665-DF71-4254-ABB4-CB5D8908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548-E5AD-47F1-A71C-65A44AA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4B7-CACA-4D62-879D-0CD71C9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1BE-6579-4B5C-82AE-F2BACD65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309-479E-4F28-B651-B9454A7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FDFA-3AAE-4115-8A90-6140F544D8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’s wrong wit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ould 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4" descr="j0303364"/>
          <p:cNvPicPr/>
          <p:nvPr/>
        </p:nvPicPr>
        <p:blipFill>
          <a:blip r:embed="rId1"/>
          <a:stretch/>
        </p:blipFill>
        <p:spPr>
          <a:xfrm>
            <a:off x="1403280" y="4797360"/>
            <a:ext cx="13683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could have had five of those if you were care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63640" y="2637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j0236367"/>
          <p:cNvPicPr/>
          <p:nvPr/>
        </p:nvPicPr>
        <p:blipFill>
          <a:blip r:embed="rId1"/>
          <a:stretch/>
        </p:blipFill>
        <p:spPr>
          <a:xfrm>
            <a:off x="3276720" y="3860640"/>
            <a:ext cx="115704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90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401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90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would of given him her last pe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1763640" y="263700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would have given him her last pen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835280" y="249228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j0283574"/>
          <p:cNvPicPr/>
          <p:nvPr/>
        </p:nvPicPr>
        <p:blipFill>
          <a:blip r:embed="rId1"/>
          <a:stretch/>
        </p:blipFill>
        <p:spPr>
          <a:xfrm>
            <a:off x="1692360" y="3789360"/>
            <a:ext cx="1089000" cy="115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6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shouldn’t of done th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shouldn’t have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763640" y="249228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AG00314_"/>
          <p:cNvPicPr/>
          <p:nvPr/>
        </p:nvPicPr>
        <p:blipFill>
          <a:blip r:embed="rId1"/>
          <a:stretch/>
        </p:blipFill>
        <p:spPr>
          <a:xfrm>
            <a:off x="4067280" y="3284640"/>
            <a:ext cx="1174680" cy="180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474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’s what she would of wa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’s what she would have wa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357720" y="250020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j0336405"/>
          <p:cNvPicPr/>
          <p:nvPr/>
        </p:nvPicPr>
        <p:blipFill>
          <a:blip r:embed="rId1"/>
          <a:stretch/>
        </p:blipFill>
        <p:spPr>
          <a:xfrm>
            <a:off x="4057560" y="2914560"/>
            <a:ext cx="1522440" cy="152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62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ould of won that ma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 could have won that ma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1619280" y="2421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95780"/>
          <p:cNvPicPr/>
          <p:nvPr/>
        </p:nvPicPr>
        <p:blipFill>
          <a:blip r:embed="rId1"/>
          <a:stretch/>
        </p:blipFill>
        <p:spPr>
          <a:xfrm>
            <a:off x="2771640" y="3716280"/>
            <a:ext cx="1152720" cy="1441440"/>
          </a:xfrm>
          <a:prstGeom prst="rect">
            <a:avLst/>
          </a:prstGeom>
          <a:ln w="0">
            <a:noFill/>
          </a:ln>
        </p:spPr>
      </p:pic>
      <p:pic>
        <p:nvPicPr>
          <p:cNvPr id="101" name="MSj0388202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521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e wouldn’t of waited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of us have got in the habit of saying the following phr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of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of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of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is wrong with these sentenc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Line 5"/>
          <p:cNvSpPr/>
          <p:nvPr/>
        </p:nvSpPr>
        <p:spPr>
          <a:xfrm>
            <a:off x="4427640" y="206064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Line 6"/>
          <p:cNvSpPr/>
          <p:nvPr/>
        </p:nvSpPr>
        <p:spPr>
          <a:xfrm>
            <a:off x="1692360" y="263700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627280" y="321300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e wouldn’t have waited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1547640" y="2492280"/>
            <a:ext cx="251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AG00466_"/>
          <p:cNvPicPr/>
          <p:nvPr/>
        </p:nvPicPr>
        <p:blipFill>
          <a:blip r:embed="rId1"/>
          <a:stretch/>
        </p:blipFill>
        <p:spPr>
          <a:xfrm>
            <a:off x="4367160" y="2867040"/>
            <a:ext cx="1069920" cy="2938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762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gratulations! You have got the hang of 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j0318186"/>
          <p:cNvPicPr/>
          <p:nvPr/>
        </p:nvPicPr>
        <p:blipFill>
          <a:blip r:embed="rId1"/>
          <a:stretch/>
        </p:blipFill>
        <p:spPr>
          <a:xfrm>
            <a:off x="4243320" y="3048120"/>
            <a:ext cx="1260720" cy="1460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564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first o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of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you REALLY mean is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’ve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a shortened version of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chester United could have won the c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 has this mistake happen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427640" y="1484280"/>
            <a:ext cx="143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4427640" y="2637000"/>
            <a:ext cx="143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427640" y="3789360"/>
            <a:ext cx="187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uld’ve” sounds like “could of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we get these two sounds mixed up when we speak: “ve” and “of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e saying them and see if you can tell the differenc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second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of lent it to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should rea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’ve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short fo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 have lent it to 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Line 4"/>
          <p:cNvSpPr/>
          <p:nvPr/>
        </p:nvSpPr>
        <p:spPr>
          <a:xfrm>
            <a:off x="1763640" y="198900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763640" y="3141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6"/>
          <p:cNvSpPr/>
          <p:nvPr/>
        </p:nvSpPr>
        <p:spPr>
          <a:xfrm>
            <a:off x="1835280" y="4365720"/>
            <a:ext cx="208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et’s look at the final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of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should read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’ve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ich is short for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y mum would have made your tea if you wanted to st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195640" y="141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6"/>
          <p:cNvSpPr/>
          <p:nvPr/>
        </p:nvSpPr>
        <p:spPr>
          <a:xfrm>
            <a:off x="2143080" y="314316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7"/>
          <p:cNvSpPr/>
          <p:nvPr/>
        </p:nvSpPr>
        <p:spPr>
          <a:xfrm>
            <a:off x="2143080" y="47862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8" descr="j0336899"/>
          <p:cNvPicPr/>
          <p:nvPr/>
        </p:nvPicPr>
        <p:blipFill>
          <a:blip r:embed="rId1"/>
          <a:stretch/>
        </p:blipFill>
        <p:spPr>
          <a:xfrm>
            <a:off x="6156360" y="4941720"/>
            <a:ext cx="882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ave a go at correcting these sentenc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nderline the mistake and write the correct version undern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She shouldn’t of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908000" y="3860640"/>
            <a:ext cx="23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n’t of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e shouldn’t have don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4"/>
          <p:cNvSpPr/>
          <p:nvPr/>
        </p:nvSpPr>
        <p:spPr>
          <a:xfrm flipV="1">
            <a:off x="2700360" y="404640"/>
            <a:ext cx="11509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71640" y="404640"/>
            <a:ext cx="1224000" cy="115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6"/>
          <p:cNvSpPr/>
          <p:nvPr/>
        </p:nvSpPr>
        <p:spPr>
          <a:xfrm>
            <a:off x="1547640" y="2276640"/>
            <a:ext cx="266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AG00290_"/>
          <p:cNvPicPr/>
          <p:nvPr/>
        </p:nvPicPr>
        <p:blipFill>
          <a:blip r:embed="rId3"/>
          <a:stretch/>
        </p:blipFill>
        <p:spPr>
          <a:xfrm>
            <a:off x="1619280" y="2997360"/>
            <a:ext cx="1728720" cy="1401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You could of had five of those if you were carefu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692360" y="2637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0:37Z</dcterms:created>
  <dc:creator>Administrator</dc:creator>
  <dc:description/>
  <dc:language>en-US</dc:language>
  <cp:lastModifiedBy>08741039</cp:lastModifiedBy>
  <dcterms:modified xsi:type="dcterms:W3CDTF">2009-07-14T04:42:10Z</dcterms:modified>
  <cp:revision>19</cp:revision>
  <dc:subject/>
  <dc:title>Slide 1</dc:title>
</cp:coreProperties>
</file>